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698-65F5-4FAC-BCC9-80C3D93F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B8D-C0FD-42D1-A3F4-46C066E7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26-E9CE-4DA2-AB32-2700454A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32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576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32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576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1C4-33FD-40DE-9E69-FF223AB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7C3-9D4E-40D7-AA79-9882C9D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3B9-2E30-49CF-9E4E-09ACDDF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A53-1B0C-4690-A570-15F9707D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B3D-FF5A-4509-9F68-83E16637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EEF-EB07-4019-A08C-FB4FC21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50C-FA5C-4C10-BEE0-51111B5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8C9-B774-4848-8CEE-54CB14A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5E4-5E63-4B21-A583-139DFEC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81A-036D-450A-8C2A-F1DD60F3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28764" dir="1817939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reme He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Collin Ander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905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Gender is more effected by hot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expect that girls will have more reaction because they have more taste bud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teri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 Boy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 Gir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 Sau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stic cup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ter Founta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ther peopl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t people drink hot sauc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ate re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rite 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562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ys             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3265200"/>
            <a:ext cx="731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 was correct and girls have a greater reaction than guys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1-02-16T15:15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